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5A67B-35CE-4614-B540-B1E12A7B4A92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E89B-4A97-4AB5-B1EE-0F310796A4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B3DF-9AF7-49F5-B87B-CD2FECBB32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3F243-D1DF-409F-89E3-8C38046BB5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42989-1A88-4C0C-9D5E-8BA0679E2A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81CA2-4A63-4937-9589-149DC90879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6439E-7CBF-42E9-849E-F8A12F89B5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75F08-1D85-4884-8D05-D978840B3A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260E-2031-4341-AE6C-AC318AFAAD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0E3C1-2E6F-435A-AAD6-E9FE7DC32D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0E28-C2D5-4718-9911-7DE0BD519C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F3ED-FF10-4FB0-867B-89891F133E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E674-38F9-4628-8DE9-BEFAB6220F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5844-D133-4CCF-9181-23F873092F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401A-127E-4D91-8F9B-C5C8F9F56E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B9F4-6FB2-4A8D-8897-CFB7160FC7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75ED-EA40-453A-87E8-67120A466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D199-00FE-4BBC-94CE-A2838F03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70685-0468-4453-A308-B89E18791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26BCE-FAEB-4CB2-9DD5-A9E09812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B1571-8119-4CB2-B071-CAB1628F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8346ED-C004-4BF7-9D51-875422A2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364B8-F952-40F1-AC12-34BC471D5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0317A-7CA1-4416-8EEC-BC57DC90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16619C-1F3D-4E22-9ACB-B8E68D190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F73D84-8ED5-4AA6-9034-7F336EFFC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2BE1E-D2BE-4A4B-BB9F-2603118C1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F9829-6DD9-4646-A5A8-8A7943CDA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7FCA-CDCC-42A4-96B8-CDE0AA54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E1532-F9D0-4E77-8383-5D79F46A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9C8E1-E581-4D7A-BBCF-F32C3AB5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2FC333-5821-4063-BD69-7162C6A1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452B0-C042-4BF3-BAB1-B9DC4064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6FBC4-389B-4C09-9780-82563CCD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743D52-EECA-42BB-B265-4DF21105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C83EE-E155-4577-8401-528F8906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36330-AEEF-44D0-AC4C-DBA87204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A68FF-43AE-4E75-BE0E-DA5040C62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0D2382-7006-45CB-A454-E5EE9FBA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FB94-7D22-4F2A-952B-C9236B91F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9992B-CDC0-4BDC-AD0B-6D3961F2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9C7601-E2FB-4C9C-9576-62951430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CC40C-68C4-4CBA-A55C-3DD2E1F8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A6DCD-8EC6-416C-9662-7D90AD086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4798E2-877B-4735-81A9-C0101C47A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6BADED-0B21-43CD-82D2-8A3BA140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6199A-F945-439C-9C05-9B4B1203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19B2D-66DE-4330-89B5-F68CC4ED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30900B-8234-47CC-9F4B-539033619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416C8-54DA-4743-94C5-09F030D9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94DC-FECA-41EF-93B1-AF729009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9D956-8F8E-4246-9B39-9C6CD84DE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0F7B8-DAD2-40D4-8338-DCCE0E76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0533C-A3E8-45FE-A45F-F66D1472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A54F0-F7CE-4EBF-B3E8-0F2888E08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2E48-0F75-402B-84EA-0A9D329B1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46CB-AF6A-4229-B35E-B9352E85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30F0B-6EAB-4FCE-9B9B-C33010A0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B8F13-4DE5-4E6D-8A79-DC4BA990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E1BF5-317F-4F86-9E53-3BC80AFF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89D4-E15C-4280-8EFD-E623033D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73E1-7B16-4548-A074-135494D2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9D37-60C5-467A-AB68-F4056061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BC94-A161-493F-BB3A-3EC5D47DE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3FCF-7972-4626-A927-F92673A5B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6570-F771-496B-96B0-27123D28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D9AD5-C1E4-428C-A809-19C06AB2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FF9DC-9E53-4D8C-AE27-0267B675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D0A47-A71B-42EB-8E70-253BAC81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5148A-54BA-48D7-A982-500D09CAF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6C550-9F2A-46CD-B8C2-35783466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3673-C4A7-49F6-BF8B-88182C8F6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D2559-E135-4DB2-BD51-DC57EE1A9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A8E7B-18F1-4572-85F6-BFF256FB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611C6-0FD3-4359-A91C-ADC9A7F2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A02AF-7CA9-42DD-AE4C-A16BDB76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0EBCB-F7E8-4078-AEE4-948C4166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34EBB-4EF8-4407-8470-E02AC91D0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2E938-0BEA-4A9D-99F0-7B75148B8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2173D-1474-472C-8018-4F5F2011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6696F-DA71-4A02-96E1-BB0B7E4D9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4A81F-9ABC-4998-80CF-D641154E5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D485-A5A5-453F-A9C6-805237CA4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B1E2E-1D7C-4C94-98ED-D404E31E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E4B69-B396-4F4D-8ABD-6704C8EB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A8296-882A-47FB-ADAE-41E506F4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00B18-816C-4E63-919B-37DD6C638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93DE2-61C1-4ED3-ACB2-954B4659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F17B6-28F9-4321-96FE-784B7D0B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169C6-C660-4683-B153-92098AAE3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DD227-7069-41AD-B8F9-7C55D2D0A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B6CFD-F1C3-474F-95B5-7F24063C8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EF3B8-433C-4C56-8D02-6C7F170E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B01F-BD29-4D52-A9BC-FF6CE771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5466A-4096-4E3B-AA91-A6AD85F4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0A12C-B15C-44AE-A45B-8EB4FE51E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3B023-E7A4-4561-BE88-242F41D3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A07F1-73DF-4354-A05A-D6CF669FB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504609-39CC-4B54-8D73-C3176F27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2C423-DD07-4CF1-82BB-BFC47603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C029DA-C300-43F0-95E8-9B82CBEC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E3B43-644B-4F04-9F7A-9FAA6D33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1E09F-9C51-4D8A-AA6F-3AA12C66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DE4E6-AD48-4C6F-B468-F31BBBBF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6B19-469E-4C3D-BC9D-3D1760F6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D9542-3C5B-4D13-A21A-A0F4FF99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D3C83-4F2C-4729-BCB2-F57515CFA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597E5-0996-49AE-B196-78A3B4EF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6FD2D8-4F89-495F-B387-010F314D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EF24D-E4BD-4C56-A80E-C13DD282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24DFE-DF5A-4739-BA29-83054436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2C5883-B2CF-43E7-B1B3-BCB6B65F5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0DF9A-6D52-4865-8090-6AB6A97B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3B69A-0189-462D-818B-140621C5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53F97-8C17-48DD-8283-73FE709D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BE0-B1F8-4C13-BB1E-E66FDF57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223C4-82FF-41A2-A475-C00112BA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E0BEE-F649-43FB-BF3F-4FC53F7C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94463-5F31-4E7E-8CAC-3F7F70499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77485-A18B-445F-A13B-78CD89FD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32DB36-0709-4161-B2A2-76CF22EB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B29CE-E0F0-4036-81A1-39FB9418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F5744-3323-4B11-AEDD-28C7E232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CD20E-16BB-4E9A-919A-F02E4809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E5248-914B-449D-BA3B-AD24FAB7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53E64-9AA4-4215-A99A-20FD50D3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F596-35CD-49F2-ABF5-6F105855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E3E6D-5C61-419D-AA6F-383EBDA6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0B32A-C46E-4CB4-9F64-0EB254BCF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863D4-AC41-4F1A-8BCE-BC8DCEBB3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086762-9754-445F-8CE9-DD698EAA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3676E-BDAA-4B63-8A5F-A9F44E73A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16D97-55DA-445A-847A-E0C34B73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18256C-D235-43DD-B106-4B0257641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90E6B-55B0-40B3-AF32-95606DBEA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B051D9-6465-457A-A88C-FE380528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0AA65-CCFB-4F90-BF93-F41C31AD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E8E3-FB9C-4D87-9A33-695153739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1979280" y="692280"/>
            <a:ext cx="7164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3B7D3-8EEE-4021-A2CC-23EDC4DC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9E0EF3-5635-4F65-B997-154DA959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AD484-57E3-46B7-8026-3602CABB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C53B3-4911-4B77-8CE7-4133086B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34723-93F3-404C-B753-9C8F579A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24912D-5403-4BF7-94C1-5FC7D34E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C2952-9AB1-4587-BBD7-BA2B9B58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8BF17-E3BA-4123-A1C5-372D777F6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C64F8-3369-4F16-A473-2542763F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3ECE9-EFB9-4076-B708-047881EA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0230-2933-440F-B4B4-ACBB2DC17E8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D72F611-A393-4C1F-A2A2-CF2CA9E4AD8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E494-7734-4B38-876E-1FBFB4662AE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993CA06-9277-44CC-8E46-BEF86B225FD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51201-F244-4830-BBB3-4334DFF5DA6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6B43A6F-0B51-4749-884D-04E1D2E480E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42D7-CDE5-48AE-9220-E7F4BC8EEA5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88B4CA1-CE42-4E30-B060-33C8EA57010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55DB-7332-4CAF-B5D9-E226A2ADBED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8936E41-683D-4CFF-8B1C-BCAF2080DAD5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EE19-581B-4E74-9C4C-5BEE135D372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0ACE0C7-2B9E-4377-AAF1-58387F02628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CBD7-D0DC-4BF7-95FA-377AEE4CBFE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A981E3A-FA91-4590-97D6-EFB153515B5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F58B-0688-4186-816D-8A94F15C009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63B5C98-0059-43FF-8D98-8F780D77E8A2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ADDE-0498-4BB9-8F17-E9C88BA583F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674B608A-2F2A-4743-8D25-67B2CDDB397C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676D-3820-4193-8159-B2E749FBA7F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51007A03-FE61-4AC6-9ECD-2E26D623C78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CD44-03BE-4ED6-B0ED-2D73E125913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732720" y="188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3A377C9-9904-45A8-A225-C6B1EF02D4B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5"/>
          <p:cNvSpPr/>
          <p:nvPr/>
        </p:nvSpPr>
        <p:spPr>
          <a:xfrm>
            <a:off x="214200" y="3789360"/>
            <a:ext cx="871560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9" name="Picture 6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15238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476360" y="2495520"/>
            <a:ext cx="565776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RUSSIAN BANKING SYSTEM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IN CURRENT ENVIRON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067200" y="4221000"/>
            <a:ext cx="30096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Oleg M. Preks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Vice-Presid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Association of Russian Bank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8 June 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Monte Carl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979280" y="54936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n banking system still falls behind despite the rapid growth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F91D-7818-4739-BF3F-E730EE8ED752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7" name="Диаграмма 3" descr=""/>
          <p:cNvPicPr/>
          <p:nvPr/>
        </p:nvPicPr>
        <p:blipFill>
          <a:blip r:embed="rId2"/>
          <a:stretch/>
        </p:blipFill>
        <p:spPr>
          <a:xfrm>
            <a:off x="142920" y="1557360"/>
            <a:ext cx="5143320" cy="4443480"/>
          </a:xfrm>
          <a:prstGeom prst="rect">
            <a:avLst/>
          </a:prstGeom>
          <a:ln w="0">
            <a:noFill/>
          </a:ln>
        </p:spPr>
      </p:pic>
      <p:pic>
        <p:nvPicPr>
          <p:cNvPr id="498" name="Диаграмма 4" descr=""/>
          <p:cNvPicPr/>
          <p:nvPr/>
        </p:nvPicPr>
        <p:blipFill>
          <a:blip r:embed="rId3"/>
          <a:stretch/>
        </p:blipFill>
        <p:spPr>
          <a:xfrm>
            <a:off x="5429160" y="1557360"/>
            <a:ext cx="3571920" cy="4443480"/>
          </a:xfrm>
          <a:prstGeom prst="rect">
            <a:avLst/>
          </a:prstGeom>
          <a:ln w="0">
            <a:noFill/>
          </a:ln>
        </p:spPr>
      </p:pic>
      <p:sp>
        <p:nvSpPr>
          <p:cNvPr id="499" name="TextBox 5"/>
          <p:cNvSpPr/>
          <p:nvPr/>
        </p:nvSpPr>
        <p:spPr>
          <a:xfrm>
            <a:off x="142920" y="6005520"/>
            <a:ext cx="51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ast growing assets means that aggressive lending policy &amp; poor risk management may be in place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growth of past due loans will become a problem for banks’ equity in coming month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Номер слайда 2"/>
          <p:cNvSpPr/>
          <p:nvPr/>
        </p:nvSpPr>
        <p:spPr>
          <a:xfrm>
            <a:off x="8501040" y="0"/>
            <a:ext cx="642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BB52A-7C44-4F24-99AC-5E831271711C}" type="slidenum">
              <a:rPr b="0" lang="en-US" sz="1600" spc="-1" strike="noStrike">
                <a:solidFill>
                  <a:srgbClr val="17375e"/>
                </a:solidFill>
                <a:latin typeface="Verdana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2" name="Диаграмма 3" descr=""/>
          <p:cNvPicPr/>
          <p:nvPr/>
        </p:nvPicPr>
        <p:blipFill>
          <a:blip r:embed="rId2"/>
          <a:stretch/>
        </p:blipFill>
        <p:spPr>
          <a:xfrm>
            <a:off x="-66600" y="0"/>
            <a:ext cx="921708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scow Still Well Behind Other Financial Center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3E6A8BD-6051-4B29-AFE6-B4081B6E036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5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9144000" cy="2857680"/>
          </a:xfrm>
          <a:prstGeom prst="rect">
            <a:avLst/>
          </a:prstGeom>
          <a:ln w="0">
            <a:noFill/>
          </a:ln>
        </p:spPr>
      </p:pic>
      <p:pic>
        <p:nvPicPr>
          <p:cNvPr id="506" name="Содержимое 4" descr=""/>
          <p:cNvPicPr/>
          <p:nvPr/>
        </p:nvPicPr>
        <p:blipFill>
          <a:blip r:embed="rId3"/>
          <a:stretch/>
        </p:blipFill>
        <p:spPr>
          <a:xfrm>
            <a:off x="0" y="4357800"/>
            <a:ext cx="9144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E0E48A8C-2F0D-402E-AA5C-59E7C10A53F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08" name="Picture 2" descr="mosmap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1692360" y="1628640"/>
            <a:ext cx="6264360" cy="5048280"/>
          </a:xfrm>
          <a:prstGeom prst="rect">
            <a:avLst/>
          </a:prstGeom>
          <a:ln w="0">
            <a:noFill/>
          </a:ln>
        </p:spPr>
      </p:pic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ut Stands for an International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nancial Center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in the New Global Environ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Text Box 26"/>
          <p:cNvSpPr/>
          <p:nvPr/>
        </p:nvSpPr>
        <p:spPr>
          <a:xfrm>
            <a:off x="250920" y="4437000"/>
            <a:ext cx="4248000" cy="9352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the third city in the world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y its budget performance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$ 40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ln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 Box 27"/>
          <p:cNvSpPr/>
          <p:nvPr/>
        </p:nvSpPr>
        <p:spPr>
          <a:xfrm>
            <a:off x="4716360" y="4437000"/>
            <a:ext cx="4248360" cy="935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living costs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clud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odging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re the highest among world capital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 Box 28"/>
          <p:cNvSpPr/>
          <p:nvPr/>
        </p:nvSpPr>
        <p:spPr>
          <a:xfrm>
            <a:off x="250920" y="5516640"/>
            <a:ext cx="4248000" cy="1081080"/>
          </a:xfrm>
          <a:prstGeom prst="rect">
            <a:avLst/>
          </a:pr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is in Top-5 financial centers to become more important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 the short term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 Box 29"/>
          <p:cNvSpPr/>
          <p:nvPr/>
        </p:nvSpPr>
        <p:spPr>
          <a:xfrm>
            <a:off x="186840" y="6583320"/>
            <a:ext cx="5374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Источники: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Grant Thornton 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Z/Yen Group,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Mercer Human Resource</a:t>
            </a:r>
            <a:r>
              <a:rPr b="0" lang="ru-RU" sz="1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Consulting</a:t>
            </a:r>
            <a:endParaRPr b="1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 Box 30"/>
          <p:cNvSpPr/>
          <p:nvPr/>
        </p:nvSpPr>
        <p:spPr>
          <a:xfrm>
            <a:off x="4716360" y="5516640"/>
            <a:ext cx="4248360" cy="1081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scow ranks 56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rnational financial center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15" name="Object 4" descr=""/>
          <p:cNvPicPr/>
          <p:nvPr/>
        </p:nvPicPr>
        <p:blipFill>
          <a:blip r:embed="rId3"/>
          <a:stretch/>
        </p:blipFill>
        <p:spPr>
          <a:xfrm>
            <a:off x="0" y="1571760"/>
            <a:ext cx="914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Номер слайда 5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0C8B104-1F0D-426C-A598-D59B23A8DEA8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e Steps by the State to Facilitate IFC Developmen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8" name="Pyr4"/>
          <p:cNvGrpSpPr/>
          <p:nvPr/>
        </p:nvGrpSpPr>
        <p:grpSpPr>
          <a:xfrm>
            <a:off x="189000" y="4834080"/>
            <a:ext cx="8759880" cy="1920600"/>
            <a:chOff x="189000" y="4834080"/>
            <a:chExt cx="8759880" cy="1920600"/>
          </a:xfrm>
        </p:grpSpPr>
        <p:pic>
          <p:nvPicPr>
            <p:cNvPr id="519" name="Pyr4" descr=""/>
            <p:cNvPicPr/>
            <p:nvPr/>
          </p:nvPicPr>
          <p:blipFill>
            <a:blip r:embed="rId2"/>
            <a:stretch/>
          </p:blipFill>
          <p:spPr>
            <a:xfrm>
              <a:off x="189000" y="4834080"/>
              <a:ext cx="8759880" cy="192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565280" y="4913280"/>
              <a:ext cx="5611680" cy="171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1" name="Pyr3"/>
          <p:cNvGrpSpPr/>
          <p:nvPr/>
        </p:nvGrpSpPr>
        <p:grpSpPr>
          <a:xfrm>
            <a:off x="1487520" y="3249720"/>
            <a:ext cx="6162480" cy="1560240"/>
            <a:chOff x="1487520" y="3249720"/>
            <a:chExt cx="6162480" cy="1560240"/>
          </a:xfrm>
        </p:grpSpPr>
        <p:pic>
          <p:nvPicPr>
            <p:cNvPr id="522" name="Pyr3" descr=""/>
            <p:cNvPicPr/>
            <p:nvPr/>
          </p:nvPicPr>
          <p:blipFill>
            <a:blip r:embed="rId3"/>
            <a:stretch/>
          </p:blipFill>
          <p:spPr>
            <a:xfrm>
              <a:off x="1487520" y="3249720"/>
              <a:ext cx="6162480" cy="156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3" name=""/>
            <p:cNvSpPr/>
            <p:nvPr/>
          </p:nvSpPr>
          <p:spPr>
            <a:xfrm>
              <a:off x="3029040" y="3317760"/>
              <a:ext cx="308592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4" name="Text Box 20"/>
          <p:cNvGrpSpPr/>
          <p:nvPr/>
        </p:nvGrpSpPr>
        <p:grpSpPr>
          <a:xfrm>
            <a:off x="1427040" y="3121200"/>
            <a:ext cx="6558120" cy="1658880"/>
            <a:chOff x="1427040" y="3121200"/>
            <a:chExt cx="6558120" cy="1658880"/>
          </a:xfrm>
        </p:grpSpPr>
        <p:pic>
          <p:nvPicPr>
            <p:cNvPr id="525" name="Text Box 20" descr=""/>
            <p:cNvPicPr/>
            <p:nvPr/>
          </p:nvPicPr>
          <p:blipFill>
            <a:blip r:embed="rId4"/>
            <a:stretch/>
          </p:blipFill>
          <p:spPr>
            <a:xfrm>
              <a:off x="1427040" y="3121200"/>
              <a:ext cx="655812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1476360" y="3213000"/>
              <a:ext cx="6141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Verdana"/>
                </a:rPr>
                <a:t>RF Government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Conditioning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positive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expectations</a:t>
              </a: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with the professional communit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27" name="Pyr2"/>
          <p:cNvGrpSpPr/>
          <p:nvPr/>
        </p:nvGrpSpPr>
        <p:grpSpPr>
          <a:xfrm>
            <a:off x="2567160" y="1822320"/>
            <a:ext cx="4005000" cy="1401840"/>
            <a:chOff x="2567160" y="1822320"/>
            <a:chExt cx="4005000" cy="1401840"/>
          </a:xfrm>
        </p:grpSpPr>
        <p:pic>
          <p:nvPicPr>
            <p:cNvPr id="528" name="Pyr2" descr=""/>
            <p:cNvPicPr/>
            <p:nvPr/>
          </p:nvPicPr>
          <p:blipFill>
            <a:blip r:embed="rId5"/>
            <a:stretch/>
          </p:blipFill>
          <p:spPr>
            <a:xfrm>
              <a:off x="2567160" y="1822320"/>
              <a:ext cx="40050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3668760" y="1887480"/>
              <a:ext cx="18050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30" name="Text Box 21"/>
          <p:cNvSpPr/>
          <p:nvPr/>
        </p:nvSpPr>
        <p:spPr>
          <a:xfrm>
            <a:off x="2806560" y="205596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RF Presid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rective on develop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 IFC in Russi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24"/>
          <p:cNvSpPr/>
          <p:nvPr/>
        </p:nvSpPr>
        <p:spPr>
          <a:xfrm>
            <a:off x="793800" y="4862520"/>
            <a:ext cx="756108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Ministry of economic develop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pt of developing an IFC in Russia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tailed action plan of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ing an IFC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ocks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ssia Takes Substantial Measures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 Support the Econom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6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4572000" cy="5214960"/>
          </a:xfrm>
          <a:prstGeom prst="rect">
            <a:avLst/>
          </a:prstGeom>
          <a:ln w="0">
            <a:noFill/>
          </a:ln>
        </p:spPr>
      </p:pic>
      <p:sp>
        <p:nvSpPr>
          <p:cNvPr id="464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88234766-AA0D-4D51-98DA-2F01B6B40A9F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5" name="Содержимое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4572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dget Deficit &amp; Government Debt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90021EBC-D6E1-40CA-8D45-EDF83FCCA1E4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Содержимое 4" descr=""/>
          <p:cNvPicPr/>
          <p:nvPr/>
        </p:nvPicPr>
        <p:blipFill>
          <a:blip r:embed="rId2"/>
          <a:stretch/>
        </p:blipFill>
        <p:spPr>
          <a:xfrm>
            <a:off x="0" y="1500120"/>
            <a:ext cx="5572080" cy="4572000"/>
          </a:xfrm>
          <a:prstGeom prst="rect">
            <a:avLst/>
          </a:prstGeom>
          <a:ln w="0">
            <a:noFill/>
          </a:ln>
        </p:spPr>
      </p:pic>
      <p:pic>
        <p:nvPicPr>
          <p:cNvPr id="469" name="Содержимое 4" descr=""/>
          <p:cNvPicPr/>
          <p:nvPr/>
        </p:nvPicPr>
        <p:blipFill>
          <a:blip r:embed="rId3"/>
          <a:stretch/>
        </p:blipFill>
        <p:spPr>
          <a:xfrm>
            <a:off x="5429160" y="1500120"/>
            <a:ext cx="3714840" cy="4500720"/>
          </a:xfrm>
          <a:prstGeom prst="rect">
            <a:avLst/>
          </a:prstGeom>
          <a:ln w="0">
            <a:noFill/>
          </a:ln>
        </p:spPr>
      </p:pic>
      <p:sp>
        <p:nvSpPr>
          <p:cNvPr id="470" name="Прямоугольник 6"/>
          <p:cNvSpPr/>
          <p:nvPr/>
        </p:nvSpPr>
        <p:spPr>
          <a:xfrm>
            <a:off x="0" y="6140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Unlike the other countries Russia is going not to sell it’s debt to the market, but to cover it from international reserv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employment Rate,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%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f Labor For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785CD8C4-ED77-4962-B730-C41A7268532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Содержимое 4" descr=""/>
          <p:cNvPicPr/>
          <p:nvPr/>
        </p:nvPicPr>
        <p:blipFill>
          <a:blip r:embed="rId2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ussia Boosts Target Rate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hile the Others Cut It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2E54EA6-30AD-4FE5-BFCF-96A43E707D9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6" name="Диаграмма 4" descr=""/>
          <p:cNvPicPr/>
          <p:nvPr/>
        </p:nvPicPr>
        <p:blipFill>
          <a:blip r:embed="rId2"/>
          <a:stretch/>
        </p:blipFill>
        <p:spPr>
          <a:xfrm>
            <a:off x="5857920" y="1643040"/>
            <a:ext cx="3286080" cy="4429080"/>
          </a:xfrm>
          <a:prstGeom prst="rect">
            <a:avLst/>
          </a:prstGeom>
          <a:ln w="0">
            <a:noFill/>
          </a:ln>
        </p:spPr>
      </p:pic>
      <p:pic>
        <p:nvPicPr>
          <p:cNvPr id="477" name="Содержимое 4" descr=""/>
          <p:cNvPicPr/>
          <p:nvPr/>
        </p:nvPicPr>
        <p:blipFill>
          <a:blip r:embed="rId3"/>
          <a:stretch/>
        </p:blipFill>
        <p:spPr>
          <a:xfrm>
            <a:off x="0" y="1600200"/>
            <a:ext cx="85438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financing Cos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9" name="Содержимое 4" descr=""/>
          <p:cNvPicPr/>
          <p:nvPr/>
        </p:nvPicPr>
        <p:blipFill>
          <a:blip r:embed="rId2"/>
          <a:stretch/>
        </p:blipFill>
        <p:spPr>
          <a:xfrm>
            <a:off x="0" y="1571760"/>
            <a:ext cx="8929800" cy="4429080"/>
          </a:xfrm>
          <a:prstGeom prst="rect">
            <a:avLst/>
          </a:prstGeom>
          <a:ln w="0">
            <a:noFill/>
          </a:ln>
        </p:spPr>
      </p:pic>
      <p:sp>
        <p:nvSpPr>
          <p:cNvPr id="480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AED2DCD7-B62A-4BF6-AC32-71CFF93EF8A0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Заголовок 1"/>
          <p:cNvSpPr/>
          <p:nvPr/>
        </p:nvSpPr>
        <p:spPr>
          <a:xfrm>
            <a:off x="285840" y="5994360"/>
            <a:ext cx="83581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countries keep the real target rate in negative zone in order to stimulate the econom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5" descr=""/>
          <p:cNvPicPr/>
          <p:nvPr/>
        </p:nvPicPr>
        <p:blipFill>
          <a:blip r:embed="rId2"/>
          <a:stretch/>
        </p:blipFill>
        <p:spPr>
          <a:xfrm>
            <a:off x="142920" y="1571760"/>
            <a:ext cx="5214960" cy="4143240"/>
          </a:xfrm>
          <a:prstGeom prst="rect">
            <a:avLst/>
          </a:prstGeom>
          <a:ln w="0">
            <a:noFill/>
          </a:ln>
        </p:spPr>
      </p:pic>
      <p:sp>
        <p:nvSpPr>
          <p:cNvPr id="48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23430707-B537-42A5-A357-5EC06543142E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84" name=""/>
          <p:cNvGraphicFramePr/>
          <p:nvPr/>
        </p:nvGraphicFramePr>
        <p:xfrm>
          <a:off x="5424480" y="1643040"/>
          <a:ext cx="3571920" cy="3541680"/>
        </p:xfrm>
        <a:graphic>
          <a:graphicData uri="http://schemas.openxmlformats.org/drawingml/2006/table">
            <a:tbl>
              <a:tblPr/>
              <a:tblGrid>
                <a:gridCol w="1638360"/>
                <a:gridCol w="1933560"/>
              </a:tblGrid>
              <a:tr h="590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posit activity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ln. Rub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 Octo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350,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 Octo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- 94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l bank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- 11 (</a:t>
                      </a: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net outflow</a:t>
                      </a:r>
                      <a:r>
                        <a:rPr b="0" lang="ru-RU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7e7e7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berb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11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TB 2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vemb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b050"/>
                          </a:solidFill>
                          <a:latin typeface="Verdana"/>
                        </a:rPr>
                        <a:t>+ 9,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85" name="TextBox 9"/>
          <p:cNvSpPr/>
          <p:nvPr/>
        </p:nvSpPr>
        <p:spPr>
          <a:xfrm>
            <a:off x="5669640" y="5202360"/>
            <a:ext cx="3372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Volume of households’ deposits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 of 1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.01.2009 –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$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185</a:t>
            </a:r>
            <a:r>
              <a:rPr b="1" lang="ru-RU" sz="1600" spc="-1" strike="noStrike">
                <a:solidFill>
                  <a:srgbClr val="262673"/>
                </a:solidFill>
                <a:latin typeface="Verdana"/>
              </a:rPr>
              <a:t> </a:t>
            </a:r>
            <a:r>
              <a:rPr b="1" lang="en-US" sz="1600" spc="-1" strike="noStrike">
                <a:solidFill>
                  <a:srgbClr val="262673"/>
                </a:solidFill>
                <a:latin typeface="Verdana"/>
              </a:rPr>
              <a:t>bln.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ivate Deposit Activ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Прямоугольник 11"/>
          <p:cNvSpPr/>
          <p:nvPr/>
        </p:nvSpPr>
        <p:spPr>
          <a:xfrm>
            <a:off x="1285920" y="5857920"/>
            <a:ext cx="607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anic with deposit withdrawal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been stopped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ble Exchange Rates Dynamic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4EA548B6-C03A-4500-9288-895683519103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0" name="Диаграмма 7" descr=""/>
          <p:cNvPicPr/>
          <p:nvPr/>
        </p:nvPicPr>
        <p:blipFill>
          <a:blip r:embed="rId2"/>
          <a:stretch/>
        </p:blipFill>
        <p:spPr>
          <a:xfrm>
            <a:off x="-6480" y="1494000"/>
            <a:ext cx="5621400" cy="5010120"/>
          </a:xfrm>
          <a:prstGeom prst="rect">
            <a:avLst/>
          </a:prstGeom>
          <a:ln w="0">
            <a:noFill/>
          </a:ln>
        </p:spPr>
      </p:pic>
      <p:sp>
        <p:nvSpPr>
          <p:cNvPr id="491" name="Заголовок 1"/>
          <p:cNvSpPr/>
          <p:nvPr/>
        </p:nvSpPr>
        <p:spPr>
          <a:xfrm>
            <a:off x="5643720" y="2928960"/>
            <a:ext cx="342900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Bank of Russia managed to stabilize the ruble, announcing the new target USD-Euro basket rate = 40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79280" y="692280"/>
            <a:ext cx="7164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in Lines to Fight the Cris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Номер слайда 3"/>
          <p:cNvSpPr/>
          <p:nvPr/>
        </p:nvSpPr>
        <p:spPr>
          <a:xfrm>
            <a:off x="6732720" y="18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fld id="{0EAA0840-533C-41FC-9AC2-ACF5770BD09B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|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4" name="Схема 5" descr=""/>
          <p:cNvPicPr/>
          <p:nvPr/>
        </p:nvPicPr>
        <p:blipFill>
          <a:blip r:embed="rId2"/>
          <a:stretch/>
        </p:blipFill>
        <p:spPr>
          <a:xfrm>
            <a:off x="1725480" y="1504800"/>
            <a:ext cx="596124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0T17:11:56Z</dcterms:created>
  <dc:creator>Serge</dc:creator>
  <dc:description/>
  <dc:language>en-US</dc:language>
  <cp:lastModifiedBy>preksin_om</cp:lastModifiedBy>
  <dcterms:modified xsi:type="dcterms:W3CDTF">2009-06-18T06:27:33Z</dcterms:modified>
  <cp:revision>1205</cp:revision>
  <dc:subject/>
  <dc:title>Расширение кредитования – важнейший фактор экономического роста России </dc:title>
</cp:coreProperties>
</file>